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fastcar.wav" ContentType="audio/x-wav"/>
  <Override PartName="/ppt/media/meepmeep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FB89-3CE6-49B6-97BF-BE3A6337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2CFF-D010-4092-8F82-13481DC1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E68F-2D70-4C9B-837B-14222554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799-A68D-42C7-82AB-D11B04A9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9A21-FE6D-4BDB-AE72-E7B14094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78B-4AC4-4384-BBA3-C50257F7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5446-289A-4D5D-88B7-7CD4909B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1BBD-52DB-404B-9BB7-7FF17B5D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9B3-8831-4C38-BBAB-5C971B44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222-EDC1-4807-8FD4-CEA8C676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F8FE-FA73-4480-9C2F-05DEB065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6B8-A0A7-4781-9299-8640D138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D23E-524C-4167-94DB-3C47FFC15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fastcar.wav"/><Relationship Id="rId6" Type="http://schemas.openxmlformats.org/officeDocument/2006/relationships/audio" Target="../media/meepmeep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fastcar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fastcar.wav"/><Relationship Id="rId5" Type="http://schemas.openxmlformats.org/officeDocument/2006/relationships/audio" Target="../media/meepmeep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fastca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fastcar.wav"/><Relationship Id="rId6" Type="http://schemas.openxmlformats.org/officeDocument/2006/relationships/audio" Target="../media/meepmeep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fastcar.wav"/><Relationship Id="rId10" Type="http://schemas.openxmlformats.org/officeDocument/2006/relationships/audio" Target="../media/meepmeep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49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expressions are equivalent. If yes, write an eq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262160" y="1900080"/>
                <a:ext cx="52592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400480" y="2654280"/>
                <a:ext cx="4572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475240" y="2717640"/>
                <a:ext cx="4492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 txBox="1"/>
          <p:nvPr/>
        </p:nvSpPr>
        <p:spPr>
          <a:xfrm>
            <a:off x="-1601640" y="6567480"/>
            <a:ext cx="12855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E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155680" y="5102280"/>
                <a:ext cx="42418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12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animMotion origin="layout" path="M 2.22222E-006 8.14815E-006 C 2.22222E-006 8.14815E-006 0.2717 -0.23564 0.5434 -0.47106 E">
                                      <p:cBhvr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49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expressions are equivalent. If yes, write an eq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895320" y="1871640"/>
                <a:ext cx="59943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t xml:space="preserve">20</m:t>
                    </m:r>
                    <m:r>
                      <m:t xml:space="preserve">÷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374920" y="2629080"/>
                <a:ext cx="5079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452920" y="2739960"/>
                <a:ext cx="493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 txBox="1"/>
          <p:nvPr/>
        </p:nvSpPr>
        <p:spPr>
          <a:xfrm>
            <a:off x="-1601640" y="6567480"/>
            <a:ext cx="12855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astcar.wav"/>
                                        </p:tgtEl>
                                      </p:cMediaNode>
                                    </p:audio>
                                    <p:animMotion origin="layout" path="M 2.22222E-006 8.14815E-006 C 2.22222E-006 8.14815E-006 0.2717 -0.23564 0.5434 -0.47106 E">
                                      <p:cBhvr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49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expressions are equivalent. If yes, write an eq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887400" y="1860480"/>
                <a:ext cx="53722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7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  and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549520" y="2730600"/>
                <a:ext cx="5079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489640" y="2847960"/>
                <a:ext cx="449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 txBox="1"/>
          <p:nvPr/>
        </p:nvSpPr>
        <p:spPr>
          <a:xfrm>
            <a:off x="-1601640" y="6567480"/>
            <a:ext cx="12855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E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579760" y="5046840"/>
                <a:ext cx="3394080" cy="96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astcar.wav"/>
                                        </p:tgtEl>
                                      </p:cMediaNode>
                                    </p:audio>
                                    <p:animMotion origin="layout" path="M 2.22222E-006 8.14815E-006 C 2.22222E-006 8.14815E-006 0.2717 -0.23564 0.5434 -0.47106 E">
                                      <p:cBhvr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49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expressions are equivalent. If yes, write an eq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25400" y="1871640"/>
                <a:ext cx="63342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t xml:space="preserve">22</m:t>
                    </m:r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22640" y="2629080"/>
                <a:ext cx="8125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364000" y="2739960"/>
                <a:ext cx="673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 txBox="1"/>
          <p:nvPr/>
        </p:nvSpPr>
        <p:spPr>
          <a:xfrm>
            <a:off x="-1601640" y="6567480"/>
            <a:ext cx="12855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astcar.wav"/>
                                        </p:tgtEl>
                                      </p:cMediaNode>
                                    </p:audio>
                                    <p:animMotion origin="layout" path="M 2.22222E-006 8.14815E-006 C 2.22222E-006 8.14815E-006 0.2717 -0.23564 0.5434 -0.47106 E">
                                      <p:cBhvr>
                                        <p:cTn id="133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49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expressions are equivalent. If yes, write an eq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33240" y="1960560"/>
                <a:ext cx="7012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3  and  </m:t>
                    </m:r>
                    <m:r>
                      <m:t xml:space="preserve">4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508200" y="2759040"/>
                <a:ext cx="5083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85840" y="2789280"/>
                <a:ext cx="13399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 txBox="1"/>
          <p:nvPr/>
        </p:nvSpPr>
        <p:spPr>
          <a:xfrm>
            <a:off x="-1601640" y="6567480"/>
            <a:ext cx="12855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E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03240" y="5522760"/>
                <a:ext cx="50356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÷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565360" y="3421080"/>
                <a:ext cx="8604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animMotion origin="layout" path="M 2.5E-006 5.78035E-007 L 0.62864 -0.46289 E">
                                      <p:cBhvr>
                                        <p:cTn id="16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49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expressions are equivalent. If yes, write an eq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9640" y="1860480"/>
                <a:ext cx="763452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t xml:space="preserve">33</m:t>
                    </m:r>
                    <m:r>
                      <m:t xml:space="preserve">÷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550960" y="2774880"/>
                <a:ext cx="5083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598760" y="2789280"/>
                <a:ext cx="1004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 txBox="1"/>
          <p:nvPr/>
        </p:nvSpPr>
        <p:spPr>
          <a:xfrm>
            <a:off x="-1601640" y="6567480"/>
            <a:ext cx="12855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E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492200" y="5467320"/>
                <a:ext cx="56577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÷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040200" y="2766960"/>
                <a:ext cx="9554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041560" y="3503520"/>
                <a:ext cx="7650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736720" y="3459240"/>
                <a:ext cx="957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486160" y="4129200"/>
                <a:ext cx="7174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804000" y="2741760"/>
                <a:ext cx="7174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fastcar.wav"/>
                                        </p:tgtEl>
                                      </p:cMediaNode>
                                    </p:audio>
                                    <p:animMotion origin="layout" path="M 1.38889E-006 4.27746E-006 L 0.65069 -0.41017 E">
                                      <p:cBhvr>
                                        <p:cTn id="237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43, 2 – 5 #1-20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13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8-23T12:55:09Z</dcterms:modified>
  <cp:revision>60</cp:revision>
  <dc:subject/>
  <dc:title>Slide 1</dc:title>
</cp:coreProperties>
</file>